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464-C791-4B76-AE4F-45A8619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0D2-0626-4CD9-AE87-1539AC99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D55-65DB-44F9-94F5-8E701FE3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2DF-8C50-4DF0-BFE3-B6D93D2A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2FE-89E5-4726-AD6B-7E4E449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CA9-A91E-41BC-918D-4CDDE83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7FA-3FA4-4637-BDFD-BACD7E0A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BA4-EE38-4D47-9163-2E3CC42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B15-B134-4F5D-B23C-A95E4DB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DFB-897F-4EAC-A96E-7E158C1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C1E-4867-481E-904A-70EDEBA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7E2-69CF-4AF8-9834-252F402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C66F-E80B-4F0C-AAC0-E4F369B2A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To be centered around 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: spun ro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 Break: re-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re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920" y="4114800"/>
            <a:ext cx="1928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g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4</cp:lastModifiedBy>
  <dcterms:modified xsi:type="dcterms:W3CDTF">2009-01-12T21:10:19Z</dcterms:modified>
  <cp:revision>1</cp:revision>
  <dc:subject/>
  <dc:title>PowerPoint Presentation</dc:title>
</cp:coreProperties>
</file>